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249-DCC5-4AE0-AE70-365BD967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8BE-27C2-4A91-BB95-463C807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C8C-549A-4DC3-983C-FB5D9A33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03A-8070-4F87-B9C4-09DA982C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CF21-66F3-4EB6-A15A-0941BE29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E89A-CEC7-4BEF-AC16-A1F83724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CAD-FBED-4CF8-B450-DFAA1841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B4D5-51D2-42B5-95B9-B2F11E32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A1DC-E99E-46E7-AABE-B37B8846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EDF0-5583-4E50-895E-7F76EE1F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1A8E-802B-43A5-925E-EAEC4A9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F95-7469-4316-812F-E76A12D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472-FD4A-4685-A6AF-322C65C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D26-12F0-425E-B2EF-DDFAB3C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254-C92B-4531-A954-4BD9D95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78E-ACFE-4F27-AEBB-EE3D3BDD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5683-9242-4317-862F-F6C61833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8AA-E003-466D-AF45-B629AD1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C6A-1514-43C5-8A70-E135F0F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A61-8AFD-4A84-BA67-BDB755B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C6C-5096-48B4-9089-748B909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E18-14D7-4F6E-BAAA-7A6C6AE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BE8-7C91-4464-8983-FDA70DB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09A-46A5-4B76-8A7F-1114651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91B-D4C1-4148-84C0-1B156EB2E5B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5B4-475D-4779-BEAF-7FD764A19CE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 Write the fraction so that it will “criss-cross”: the bottom will have the same unit as the previous fraction’s top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We will choo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.  Repeat steps 4-5 until you reach an equivalence that includes your ending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next and last equivalence wi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tep seven that you prefer. 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.  Your answer will be this division: (All the top numbers multiplied together)/(All the bottom numbers multiplied together) and your final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(2 x 60 x 60)/(1 x 1 x 1) sec = 7200 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.  Do each division one at a time, and multiply them as you go a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(2/1) x (60/1) x (60/1) sec = 2 x 60 x 60 sec = 7200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.  Round your final answer to the same number of sig figs as your starting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 2 hours has 1 sig fig.  7200 seconds -&gt; 7000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, short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onds are in five minutes?  Before we write i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our starting and finishing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quivalences will we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 ha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inutes is 47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onds is 1.89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ivalences given on the handout to do this one with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eet are in 2 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eters are in 850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boar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rite ten dimensional analysis problems for an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rtner, write the quiz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ner, write the answer key INCLUDING AL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rder to get a problem correct, they must show all work with units by every number, and have their answer in the correct sig fi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convert between units using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helpful skill in science, and one that will get especially helpful in chemistry and physics…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also be another way of converting prefixes that some of you may prefer to hopping the decimal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take PRACTICE to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mensional analysis is a method of converting a measurement from one uni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 How many seconds is 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72200" y="4626000"/>
            <a:ext cx="2971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most important in any dimensional analysi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 Identify the unit your measurement is already in, and identify the unit you want your measurement to end up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 Measurement is already in hours.  We want it in secon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 If you don’t know how many of your starting unit directly equals your ending unit, make a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know off the top of my head how many seconds are in an hour, for instance.  But I know how many seconds are in a minute, and how many minutes are in an hou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 Hours -&gt; Minutes -&gt; Seconds will be my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 Begin your chain with your starting measurement  Write it as a fraction with a denominator of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 SUPER 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DOING THESE PROBLEMS TO ALWAYS WRITE YOUR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 The next fraction in your chain will be an “equivalence.”  The top of the fraction equals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t wi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or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5:19Z</dcterms:created>
  <dc:creator>Rebecca Stang</dc:creator>
  <dc:description/>
  <dc:language>en-US</dc:language>
  <cp:lastModifiedBy>Rebecca Stang</cp:lastModifiedBy>
  <dcterms:modified xsi:type="dcterms:W3CDTF">2009-10-04T15:22:34Z</dcterms:modified>
  <cp:revision>23</cp:revision>
  <dc:subject/>
  <dc:title>Dimensional Analysis</dc:title>
</cp:coreProperties>
</file>